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  <p:sldId id="277" r:id="rId44"/>
    <p:sldId id="278" r:id="rId45"/>
    <p:sldId id="279" r:id="rId46"/>
    <p:sldId id="280" r:id="rId47"/>
    <p:sldId id="281" r:id="rId48"/>
    <p:sldId id="282" r:id="rId49"/>
    <p:sldId id="283" r:id="rId50"/>
    <p:sldId id="284" r:id="rId51"/>
    <p:sldId id="285" r:id="rId52"/>
    <p:sldId id="286" r:id="rId53"/>
    <p:sldId id="287" r:id="rId54"/>
    <p:sldId id="288" r:id="rId55"/>
    <p:sldId id="289" r:id="rId56"/>
    <p:sldId id="290" r:id="rId57"/>
    <p:sldId id="291" r:id="rId58"/>
    <p:sldId id="29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slide" Target="slides/slide22.xml"/><Relationship Id="rId45" Type="http://schemas.openxmlformats.org/officeDocument/2006/relationships/slide" Target="slides/slide23.xml"/><Relationship Id="rId46" Type="http://schemas.openxmlformats.org/officeDocument/2006/relationships/slide" Target="slides/slide24.xml"/><Relationship Id="rId47" Type="http://schemas.openxmlformats.org/officeDocument/2006/relationships/slide" Target="slides/slide25.xml"/><Relationship Id="rId48" Type="http://schemas.openxmlformats.org/officeDocument/2006/relationships/slide" Target="slides/slide26.xml"/><Relationship Id="rId49" Type="http://schemas.openxmlformats.org/officeDocument/2006/relationships/slide" Target="slides/slide27.xml"/><Relationship Id="rId50" Type="http://schemas.openxmlformats.org/officeDocument/2006/relationships/slide" Target="slides/slide28.xml"/><Relationship Id="rId51" Type="http://schemas.openxmlformats.org/officeDocument/2006/relationships/slide" Target="slides/slide29.xml"/><Relationship Id="rId52" Type="http://schemas.openxmlformats.org/officeDocument/2006/relationships/slide" Target="slides/slide30.xml"/><Relationship Id="rId53" Type="http://schemas.openxmlformats.org/officeDocument/2006/relationships/slide" Target="slides/slide31.xml"/><Relationship Id="rId54" Type="http://schemas.openxmlformats.org/officeDocument/2006/relationships/slide" Target="slides/slide32.xml"/><Relationship Id="rId55" Type="http://schemas.openxmlformats.org/officeDocument/2006/relationships/slide" Target="slides/slide33.xml"/><Relationship Id="rId56" Type="http://schemas.openxmlformats.org/officeDocument/2006/relationships/slide" Target="slides/slide34.xml"/><Relationship Id="rId57" Type="http://schemas.openxmlformats.org/officeDocument/2006/relationships/slide" Target="slides/slide35.xml"/><Relationship Id="rId58" Type="http://schemas.openxmlformats.org/officeDocument/2006/relationships/slide" Target="slides/slide36.xml"/><Relationship Id="rId59" Type="http://schemas.openxmlformats.org/officeDocument/2006/relationships/slide" Target="slides/slide3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0753-1EFA-4777-9277-6ABCB9F47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5750-CE62-413A-A312-922F5D9A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B735DB-DF7C-49DE-86D6-ABD42A7C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F931FA-357C-4573-8B31-462B5075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966F10-9340-493D-B8C7-C743C835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05A571-43EE-4BC4-85A9-CC663C2F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A46339-D496-4E1F-B4DE-327F7FFC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2E2E11-FB52-41C6-9196-EF3C94C6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F68ECD-B8F8-4D5A-88A4-DE60B4DE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1C0203-FA62-4155-890D-47B0B0D9E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09DC1-4E5B-4A1C-843F-2B014AF66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3FBE7E-FFBB-4282-8AD4-07AA1A11C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797E-41AC-44DA-A551-6E5165CF7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35CED9-AB94-4925-A498-13DA436B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2E20C8-4782-4950-BD31-3CE6C2DF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70F5EF-FBE7-44F5-86D7-B03486F0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997BC1-C2A3-4B5A-B08F-934711D8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0A6CA1-B488-455A-AFDA-C8AA83CE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2DAF94-2453-47C2-8F37-99B5270F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3D0F9A-A7E6-4A0D-983E-2C5A9CFD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7C97EA-3D1C-4465-B11F-94A7777F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9E5D48-E361-4CF6-89D4-525C2F09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D2B2EB-AE09-4E7D-838A-5C6636D02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65F8-D4CF-4591-8A1E-386FD4377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425317-448C-47FC-A0A4-234A071B8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94C151-F25D-4AEE-A5CF-037D656BA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0A407F-A0EA-4E96-AC5D-3499D19D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1A011E-0AF7-4EFA-B93B-C79FEE00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53B2B-C226-4936-9616-8F9B711D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2413E3-E31A-4FC7-B310-FCFCA3DE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EEC55-0A97-4FF9-B6D3-C68FC858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2DC685-B9B2-4A2E-842C-03585EDF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62301C-5133-4583-8284-85C96503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E54FE-AB87-4E88-8977-D10D36C0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1046-B20F-4B73-86F6-040EBFE5A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3C737-743F-4CEF-85D8-22FD8A0B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4BA46D-61D9-4EF8-B489-AD84B394B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DE4667-3831-4C3D-9080-ADEDD7F4E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D103E6-D1AE-4B54-9A64-BEAE98709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533762-3F47-4E12-B13B-86F5E4C0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957E02-FB90-4B96-B22C-3BF7F350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A10D52-589E-4C53-955C-A631F02A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2EE56D-6D36-49AA-87F8-61941B31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2444AB-A6FD-4EA1-A89B-0DB53DBC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A3E20F-0EA6-4BD8-8D40-650353AD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85A6-DC6A-431B-B817-9AE142EC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3C6B1E-9CCE-44EE-8795-1C8DFF31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B23D42-6748-4294-A1DD-23F2D07A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C600A0-400B-4D5B-9C26-A1F9563A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88599B-F85B-4F17-BE11-0210BDFCB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96FA4E-323E-4679-BD18-9B3DB28C2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CE71C6-E122-4C5A-BA4B-B244A3773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409E9D-3E51-4211-A5CD-AA9680EE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581913-D54E-4D91-B274-114F2FFFF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9EDD73-D4A8-436C-B571-5ED90980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9EED4C-45D7-4EDE-A335-18AC3DDA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C3D0-969E-48CB-9779-BDEDD1C8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C01724-A62C-49C8-9588-8ADE07CB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902C5D-5509-4B86-9B52-6AF651A6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60AF9A-9F96-4569-9DE0-2156DFEA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8C37E7-7C8D-4B7F-A32F-DC0CEFAD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708D08-1B82-48F5-B2F5-24DC6191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2610FA-06C8-40A3-9486-143282BA4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26B5EA-A0DE-41C3-86A4-FEB720FCE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E0FD08-E473-446F-8E7D-CC4269C75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339B8F-9514-45A1-B242-EF19EAA2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DA707D-43BB-41BB-82EC-6600ECF3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71A0-7D11-44EC-982F-65A1C4F8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9B6761-0AAB-4B19-996D-40F8963C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8A62E9-64C9-42D2-9D28-9BAC7201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A1F717-C118-4381-82FE-D5DE1444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81176B-F4E6-45B1-BA43-802E86DA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CB37C2-9883-4A66-AC0B-DDEDB06A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2CA48F-52AD-4A9A-90D3-E202440E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E110D1-29A3-4686-9698-49027A4B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85FD9F-E0B4-4C9E-8227-89E94175A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815FEF-C626-40B0-BBBB-B4C13EBDC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F4CB73-FC83-44A9-B815-AC5D8FE40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76012-0A35-4FF5-93ED-AD99171D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902ADF-BDF8-47CA-81AF-98463158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1069BE-C3CF-4CFB-A896-8628070D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696667-A710-4429-A192-641878C0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C309A0-8D36-4AB9-97F7-B355C269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C750A5-0742-4AB6-8C22-44F6B7DD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D951FE-9275-4DF5-88D5-3113F823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6C4BB2-4CB7-4A8B-824B-4095839D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DB0D8A-7B97-4D6C-99D4-60FD4061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C583D6-1AF2-43EB-9427-638C2884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E3A164-2FD4-4D9B-A95F-417414FF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7A82-1078-4B2B-B000-BC1F2847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4F3F6A-9492-4288-AD8F-9BC0AFB6D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4E95BD-EAE0-4D95-A634-33040ED51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4EB8C2-FAB2-4FCA-B712-B6AD58EB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77DCCB-AB9C-42CE-BD35-1ECB8AF7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925955-C8B4-4028-9076-5B39E94C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0C2053-E400-4786-9A22-66560371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ABDE1C-59EC-4429-9AE5-683CDE86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BC0E3A-D654-4988-BB7B-48B340A5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C832FA-177C-4999-B502-C7E89E44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EDF735-5872-4C40-A86E-9DC8EA0E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57D24-9AA0-4FCC-8E51-EBE8D409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2A7FBC-AA9D-45E2-BE00-DE38F429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508EF1-D8F5-4C13-B5A0-00073441E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A07E1A-6575-4FC0-BACE-3204F4CB1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437102-481B-4B37-9145-1FDA0EDE4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9076F3-920D-4EA6-AC8A-229826B8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D22B69-5C0F-403F-9D72-B8BC8F40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5487F3-EDB1-42B1-9D64-28D07D29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603351-7105-48EE-A49B-B9FA7ACB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BB45D6-77FD-4281-8D12-0FEAA810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7DED6F-6533-4C1D-85F9-9CACB4EB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2AF7-CA18-43D7-9241-F3CB9DCC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3626E-D932-4B49-9B11-93A89ACF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21BE8D-90CE-47EE-8E65-A5B9B533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8F912B-4252-4ACE-918A-0955FF99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14A744-EEB1-4822-82D3-0EBF44B9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BD3ADC-E07E-40E5-ACCB-5D9461E03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07EE01-D365-45F7-8B4F-C960E97DD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2121AD-BF87-438A-B438-8820883AE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D2DEDF-F607-4B9B-9EF8-075EFBFE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BCDBA6-336F-4569-A724-3389D2AC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F6CA06-5EEA-47A4-A7A7-4C423198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978C8C-E90D-4696-A503-04F252C0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10F2-631A-47F7-9AD4-2406D31C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CBBFE1-35B0-4A94-8259-3535F031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55BC6A-359C-48B5-92FB-7689BCE6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2524CC-C767-4AFB-BE99-7AC71B30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886DF7-6CFE-4AE0-90A2-3890B6D1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9DD21F-C80D-4CA1-A864-52C98064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C316A4-68F9-4882-98BB-F2DC5EAE9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6D4D7F-8E2A-44A2-B3C0-16C3D5A67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B9187E-7E84-4379-A866-FA1C313E2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69BABF-6B95-41EF-AE6C-6484FF94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251157-8F2F-4CFC-9C9C-CB8D430A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D80A-7770-4CFC-B914-78A75CD0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519B17-1E03-4719-ADC8-92CDF1C5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37CC85-E579-44BF-98F4-A848C1D43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F42EF3-BE27-4CFA-B2CD-B4F13E6D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A51D53-7841-44D0-89D7-EE0E162A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E53E8C-A0CB-4119-8C35-07FB2079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EED411-5FFE-476A-80A7-D92B0D7F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3BA9B4-63E2-4B7E-9A95-B0951E51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4FBC25-DADE-41AE-843F-8B8A68119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234F23-9A50-445D-9EC8-3C8092D5C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7238C7-DCE1-4085-9D93-EECA98CAB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7B64-D505-4CFB-BBF9-4A13E843B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BCB844-EBA9-4967-81B5-A2CA8114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94074E-01E1-42F7-B4EC-78EB235F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4F5C95-D8C7-41F8-A67D-62A9B173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1EE998-CCF1-4932-B62C-E659CEF6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44A098-D696-4F01-8D86-63CCD2FD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947300-E5C9-45AC-A944-741BBDD2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FE8334-E3BC-4C33-8815-7E365DA4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4A5C4E-B8F5-418D-9BC5-CE4EC623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57EE28-1816-46B2-A5DB-D6810705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D1DC17-B3ED-4E2E-A4B3-B79266CDE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B0DD-1583-46F5-BA9B-D6B58F7BB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C2C45F-8418-48A5-AC7C-53F6F9A2F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2D6710-3D67-4A36-94A2-E04F8F4B8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23A841-635F-40E3-9941-9370DDA0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88C156-3AA7-4759-A74F-1F69E800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5439F7-4EC4-4F0A-A2E2-DB073E30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DCF610-2905-407A-91D4-278C64DF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410FEC-34F9-4664-AD17-48FEE1E1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0517C5-9AA7-42CB-BBDD-F2D5DE8D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A962FE-A9C8-4472-87B8-1D697D0D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387FBE-60B1-4722-94A0-4A1FB585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FA25E-627B-4736-B316-AE0DF6438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A9385C-E20E-4EDE-B372-B33D8791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28E780-DBF1-44D0-80FD-BAE003FA1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74A455-FEAC-44E4-89FC-21B43954B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D111E-5152-44AB-BD80-6B87547A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8A03F-0512-4583-88F8-98684603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B2132-54A9-4BD6-A7F0-76E3B152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8E51E-7811-435C-860D-AF36C9E6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84AF-9409-4423-AAC0-F245EB84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F0466-10C7-4402-84B7-0C4C4006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5C89F-CF1D-4D35-A370-270555D3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BEB0F-DE28-45DA-B946-16386B94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B75DA-DC30-4C63-8FAF-6BD9EC0C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75A91-FA54-4594-9AA3-79F2301B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B9E62-CDF5-4F92-B640-F95CACDE8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207D0-60A1-406C-ABD2-786C6848B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3DA08-C336-4528-8920-AE46E7F80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8B802-2B22-47F9-80FF-C2252290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BE047-5D03-45D7-A11D-CC072B18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2374-803A-4813-B5DA-9DB9E67F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DFCC9-745D-4550-8101-E55B0F5B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4766F-C62B-4295-9816-65060BEC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5A03A-BB53-4C6C-81BC-30896E93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A0AF6-8CAC-488E-BF15-E7A348EC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EDCDE-6944-4949-8101-15870A2C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A85BC-1D9A-4ECF-9EF8-88715779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FCD36-E453-4614-B520-FA270EAA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620B1-DD58-479E-AA01-318D524BA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0EFE4-4DEA-4980-8FDE-254929447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B92D5-3602-486E-AF60-1DA4615EF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600C-E747-47E2-833A-FC2B3FFA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B242B-1631-4B01-99B9-8525460B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EBA5A-CEAB-4F21-B066-483771BA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BECDB-0CF1-47C4-86D6-386F4A8D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02B96-35CE-496A-A8D2-89182B33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7A85A-B7BE-44F7-A947-B0AA0566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E9C3F-0DDB-40E1-9F73-C8F9CD2C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BE6AE-CBBB-4BA4-925F-1C507B21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37B60-678D-4A5C-8CCC-408A7CA0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C5A94-E157-45E7-9A82-26098733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CA68B-C354-4218-8EB1-C5A320F6E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9CB8-565D-4C35-B20A-E033F205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88613-75EF-455F-AA96-EA025FF42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805DD-D04F-4897-B855-513960628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4CC28-23C2-4588-A8A3-7C20A97C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CB4DC-ABC4-497B-B9EE-53204F3B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9F676-6B78-4FF7-BC07-CC46EFB3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A21F6-7257-41C5-B8C3-9F3B8138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24A08-FF8F-4098-B0CC-223923E7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4D808-CD16-4A03-9F97-F1334470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0006C-62DF-454C-9D40-9D9537EC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6559E-7FA0-4F06-BD94-4B9FC0D3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BB85-D484-4A87-820D-44D35897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8B188-7FFA-4F3C-A2FE-E2949B9E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C9036-1DB2-4289-82B9-59BDF7EFF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F6386-DE94-45DA-8447-6025A5DD6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18ACA-7F05-4063-A08A-1B13F116E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5C4CA-08C5-4538-ACCF-8285E070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685A5-52F0-4C67-8537-552C5C0C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D97D8-2FFC-43A5-8EEA-60C64C15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3C791-CC3D-4736-AEC5-BB3AFAFF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4CCE1-B409-471F-92F0-F0D9A51D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C7C42-2ADA-4AF1-AAE5-96F3DCCB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DA08-69A3-4D64-A6B2-01696CC5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83584-E328-4D67-A017-CD94C3B0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D3FFA-9632-47C4-88F8-AC3C8E49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888E7-E10F-4508-B65C-B746F095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141BA-7E45-449E-BBD3-A8FD7204F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A6B16-2021-4A00-98FA-F5869625B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57116-A9AC-4607-B6F2-B3E01B4D6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C2A54-F103-400F-B906-46FBFBC1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2E962-A441-42D1-903A-44435D38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30CF6-CC06-4920-8126-80C9BBC0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DF9CE-7966-4FCC-9727-0ED3D9DC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5AD7-A2CE-494A-BCAF-0858BC61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AF391-A779-498A-B011-674A158B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F8359-F93D-459D-9BDB-3C1A96D6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E7D77-3C36-447D-BDD4-D1EB7F22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5AFFF-6E7F-4DD1-8D40-22EAC4F3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23EA0-565A-441F-8643-33A97FF5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2B808-EA3B-42CB-9033-CA4DF12DD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7580A-CBB7-4FF3-ABDA-F2197FB42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AEC121-8AD8-4436-855C-1EDBFE553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96528F-EF37-4529-AD41-33B7237B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783213-68F4-4792-AA37-7108397C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4400-7674-42B5-8F65-165F7FAED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EC42-81D5-48F7-944A-7FB31886A5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3F1C-D0C9-481B-8571-5484A066D2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639E-2895-4E37-8DC6-DB934DF461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8E1E-58EC-4646-A02A-B4533DAF8A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0B2D-9A0D-49EF-B781-17E2354C4A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FFBD-31C9-41B2-AB09-7D7BF8652B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B073-4865-4A33-A7F6-9C5F9F1459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1F53-255E-443F-B0B8-28ED2DC837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5054-4D92-4E4A-AFAA-00C86A3C1F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93FC-BD26-4D5B-A6B1-AF68C092E3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DE7E-6B73-4BAC-B728-ADED29F95F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5D7D-8334-4FF9-B73D-03844479B4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5E9B-F8F8-48D0-B266-D3719FFE97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8622-8433-4C69-9CFF-E0A13A013A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F27F-A4BF-4E80-BD27-F94313D818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0EC6-0B93-4B22-A99F-7E73DAF1CF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162E-0C8F-4D11-B339-D4C4B1450C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D49B-F948-4A1B-9F32-5F21960E86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8039-FF88-44BD-8969-CB26024619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92C7-6F5D-4CCE-BE4C-ADB5195A85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A50D-6AAD-490F-BA54-848E8C87FA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F747-9EEA-4EB4-9B4C-34BB640265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8E22-9753-4DDA-895E-C58F5EB9A7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BD53-C4B8-4E50-8B95-30C6A9F3C9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43B3-4229-4634-A2F2-C433A68FDD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1692-3F4F-444D-8CF3-B2863629C9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9806-6052-4817-B516-F8331227C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758B-0086-4639-9C58-C741CAE881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AC54-E0F0-407F-A75F-8EFE39EA0E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F172-6849-4E37-89C8-0C625F80C6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C586-5140-43EF-A423-55F37E1A5B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DB51-2CB2-43F1-BD9E-EBD312402D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3CD7-79D2-49FE-8095-684D29D497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D88B-DDC7-4914-B6F7-C2899E9984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BB60-6580-423E-8CB8-5A13E828EC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4BC2-2DEC-45AF-9D91-D97D7661FF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A11C-B892-4B53-AE19-5BBAE1C434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A65A-7D25-473F-BF08-1B727DE69E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BED2-B08D-4679-9145-AEA4BD26DB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3078" descr=""/>
          <p:cNvPicPr/>
          <p:nvPr/>
        </p:nvPicPr>
        <p:blipFill>
          <a:blip r:embed="rId1"/>
          <a:stretch/>
        </p:blipFill>
        <p:spPr>
          <a:xfrm>
            <a:off x="824040" y="3081240"/>
            <a:ext cx="749592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图片 56321" descr=""/>
          <p:cNvPicPr/>
          <p:nvPr/>
        </p:nvPicPr>
        <p:blipFill>
          <a:blip r:embed="rId1"/>
          <a:stretch/>
        </p:blipFill>
        <p:spPr>
          <a:xfrm>
            <a:off x="236520" y="843120"/>
            <a:ext cx="8124840" cy="5838840"/>
          </a:xfrm>
          <a:prstGeom prst="rect">
            <a:avLst/>
          </a:prstGeom>
          <a:ln w="0">
            <a:noFill/>
          </a:ln>
        </p:spPr>
      </p:pic>
      <p:sp>
        <p:nvSpPr>
          <p:cNvPr id="1038" name="矩形 56322"/>
          <p:cNvSpPr/>
          <p:nvPr/>
        </p:nvSpPr>
        <p:spPr>
          <a:xfrm>
            <a:off x="2381400" y="4951440"/>
            <a:ext cx="589752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56323"/>
          <p:cNvSpPr/>
          <p:nvPr/>
        </p:nvSpPr>
        <p:spPr>
          <a:xfrm>
            <a:off x="2046240" y="5554800"/>
            <a:ext cx="589752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56324"/>
          <p:cNvSpPr/>
          <p:nvPr/>
        </p:nvSpPr>
        <p:spPr>
          <a:xfrm>
            <a:off x="2279520" y="6159600"/>
            <a:ext cx="589752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图片 55297" descr=""/>
          <p:cNvPicPr/>
          <p:nvPr/>
        </p:nvPicPr>
        <p:blipFill>
          <a:blip r:embed="rId1"/>
          <a:stretch/>
        </p:blipFill>
        <p:spPr>
          <a:xfrm>
            <a:off x="728640" y="1009800"/>
            <a:ext cx="7686720" cy="4838400"/>
          </a:xfrm>
          <a:prstGeom prst="rect">
            <a:avLst/>
          </a:prstGeom>
          <a:ln w="0">
            <a:noFill/>
          </a:ln>
        </p:spPr>
      </p:pic>
      <p:sp>
        <p:nvSpPr>
          <p:cNvPr id="1042" name="矩形 55298"/>
          <p:cNvSpPr/>
          <p:nvPr/>
        </p:nvSpPr>
        <p:spPr>
          <a:xfrm>
            <a:off x="1400040" y="3390840"/>
            <a:ext cx="50007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55299"/>
          <p:cNvSpPr/>
          <p:nvPr/>
        </p:nvSpPr>
        <p:spPr>
          <a:xfrm>
            <a:off x="1182600" y="4086360"/>
            <a:ext cx="746604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55300"/>
          <p:cNvSpPr/>
          <p:nvPr/>
        </p:nvSpPr>
        <p:spPr>
          <a:xfrm>
            <a:off x="1006560" y="4707000"/>
            <a:ext cx="746604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55301"/>
          <p:cNvSpPr/>
          <p:nvPr/>
        </p:nvSpPr>
        <p:spPr>
          <a:xfrm>
            <a:off x="981000" y="5310360"/>
            <a:ext cx="746604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图片 54273" descr=""/>
          <p:cNvPicPr/>
          <p:nvPr/>
        </p:nvPicPr>
        <p:blipFill>
          <a:blip r:embed="rId1"/>
          <a:stretch/>
        </p:blipFill>
        <p:spPr>
          <a:xfrm>
            <a:off x="361800" y="898560"/>
            <a:ext cx="8077320" cy="4753080"/>
          </a:xfrm>
          <a:prstGeom prst="rect">
            <a:avLst/>
          </a:prstGeom>
          <a:ln w="0">
            <a:noFill/>
          </a:ln>
        </p:spPr>
      </p:pic>
      <p:sp>
        <p:nvSpPr>
          <p:cNvPr id="1047" name="矩形 54274"/>
          <p:cNvSpPr/>
          <p:nvPr/>
        </p:nvSpPr>
        <p:spPr>
          <a:xfrm>
            <a:off x="762120" y="4549680"/>
            <a:ext cx="77007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54275"/>
          <p:cNvSpPr/>
          <p:nvPr/>
        </p:nvSpPr>
        <p:spPr>
          <a:xfrm>
            <a:off x="711360" y="5153040"/>
            <a:ext cx="77007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图片 53249" descr=""/>
          <p:cNvPicPr/>
          <p:nvPr/>
        </p:nvPicPr>
        <p:blipFill>
          <a:blip r:embed="rId1"/>
          <a:stretch/>
        </p:blipFill>
        <p:spPr>
          <a:xfrm>
            <a:off x="282600" y="941400"/>
            <a:ext cx="8048520" cy="2943360"/>
          </a:xfrm>
          <a:prstGeom prst="rect">
            <a:avLst/>
          </a:prstGeom>
          <a:ln w="0">
            <a:noFill/>
          </a:ln>
        </p:spPr>
      </p:pic>
      <p:sp>
        <p:nvSpPr>
          <p:cNvPr id="1050" name="矩形 53250"/>
          <p:cNvSpPr/>
          <p:nvPr/>
        </p:nvSpPr>
        <p:spPr>
          <a:xfrm>
            <a:off x="593640" y="2165400"/>
            <a:ext cx="790272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53251"/>
          <p:cNvSpPr/>
          <p:nvPr/>
        </p:nvSpPr>
        <p:spPr>
          <a:xfrm>
            <a:off x="527040" y="2770200"/>
            <a:ext cx="790272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53252"/>
          <p:cNvSpPr/>
          <p:nvPr/>
        </p:nvSpPr>
        <p:spPr>
          <a:xfrm>
            <a:off x="450720" y="3382920"/>
            <a:ext cx="790272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图片 52225" descr=""/>
          <p:cNvPicPr/>
          <p:nvPr/>
        </p:nvPicPr>
        <p:blipFill>
          <a:blip r:embed="rId1"/>
          <a:stretch/>
        </p:blipFill>
        <p:spPr>
          <a:xfrm>
            <a:off x="282600" y="944640"/>
            <a:ext cx="8048520" cy="1704960"/>
          </a:xfrm>
          <a:prstGeom prst="rect">
            <a:avLst/>
          </a:prstGeom>
          <a:ln w="0">
            <a:noFill/>
          </a:ln>
        </p:spPr>
      </p:pic>
      <p:pic>
        <p:nvPicPr>
          <p:cNvPr id="1054" name="图片 52226" descr=""/>
          <p:cNvPicPr/>
          <p:nvPr/>
        </p:nvPicPr>
        <p:blipFill>
          <a:blip r:embed="rId2"/>
          <a:stretch/>
        </p:blipFill>
        <p:spPr>
          <a:xfrm>
            <a:off x="663480" y="2735280"/>
            <a:ext cx="7648560" cy="2190600"/>
          </a:xfrm>
          <a:prstGeom prst="rect">
            <a:avLst/>
          </a:prstGeom>
          <a:ln w="0">
            <a:noFill/>
          </a:ln>
        </p:spPr>
      </p:pic>
      <p:sp>
        <p:nvSpPr>
          <p:cNvPr id="1055" name="矩形 52227"/>
          <p:cNvSpPr/>
          <p:nvPr/>
        </p:nvSpPr>
        <p:spPr>
          <a:xfrm>
            <a:off x="652320" y="2652840"/>
            <a:ext cx="78519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52228"/>
          <p:cNvSpPr/>
          <p:nvPr/>
        </p:nvSpPr>
        <p:spPr>
          <a:xfrm>
            <a:off x="542880" y="3273480"/>
            <a:ext cx="78519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52229"/>
          <p:cNvSpPr/>
          <p:nvPr/>
        </p:nvSpPr>
        <p:spPr>
          <a:xfrm>
            <a:off x="552600" y="3868560"/>
            <a:ext cx="7851600" cy="3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52230"/>
          <p:cNvSpPr/>
          <p:nvPr/>
        </p:nvSpPr>
        <p:spPr>
          <a:xfrm>
            <a:off x="534960" y="4464000"/>
            <a:ext cx="78519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图片 51201" descr=""/>
          <p:cNvPicPr/>
          <p:nvPr/>
        </p:nvPicPr>
        <p:blipFill>
          <a:blip r:embed="rId1"/>
          <a:stretch/>
        </p:blipFill>
        <p:spPr>
          <a:xfrm>
            <a:off x="141120" y="1027080"/>
            <a:ext cx="8143920" cy="2943360"/>
          </a:xfrm>
          <a:prstGeom prst="rect">
            <a:avLst/>
          </a:prstGeom>
          <a:ln w="0">
            <a:noFill/>
          </a:ln>
        </p:spPr>
      </p:pic>
      <p:sp>
        <p:nvSpPr>
          <p:cNvPr id="1060" name="矩形 51202"/>
          <p:cNvSpPr/>
          <p:nvPr/>
        </p:nvSpPr>
        <p:spPr>
          <a:xfrm>
            <a:off x="752400" y="2257560"/>
            <a:ext cx="768348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矩形 51203"/>
          <p:cNvSpPr/>
          <p:nvPr/>
        </p:nvSpPr>
        <p:spPr>
          <a:xfrm>
            <a:off x="642960" y="2836800"/>
            <a:ext cx="768348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51204"/>
          <p:cNvSpPr/>
          <p:nvPr/>
        </p:nvSpPr>
        <p:spPr>
          <a:xfrm>
            <a:off x="558720" y="3465360"/>
            <a:ext cx="768348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图片 50177" descr=""/>
          <p:cNvPicPr/>
          <p:nvPr/>
        </p:nvPicPr>
        <p:blipFill>
          <a:blip r:embed="rId1"/>
          <a:stretch/>
        </p:blipFill>
        <p:spPr>
          <a:xfrm>
            <a:off x="447840" y="1192320"/>
            <a:ext cx="814356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图片 73731" descr=""/>
          <p:cNvPicPr/>
          <p:nvPr/>
        </p:nvPicPr>
        <p:blipFill>
          <a:blip r:embed="rId1"/>
          <a:stretch/>
        </p:blipFill>
        <p:spPr>
          <a:xfrm>
            <a:off x="428760" y="1093680"/>
            <a:ext cx="804852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图片 74753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105760" cy="53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图片 75777" descr=""/>
          <p:cNvPicPr/>
          <p:nvPr/>
        </p:nvPicPr>
        <p:blipFill>
          <a:blip r:embed="rId1"/>
          <a:stretch/>
        </p:blipFill>
        <p:spPr>
          <a:xfrm>
            <a:off x="512640" y="982800"/>
            <a:ext cx="8153640" cy="3543120"/>
          </a:xfrm>
          <a:prstGeom prst="rect">
            <a:avLst/>
          </a:prstGeom>
          <a:ln w="0">
            <a:noFill/>
          </a:ln>
        </p:spPr>
      </p:pic>
      <p:pic>
        <p:nvPicPr>
          <p:cNvPr id="1067" name="图片 75778" descr=""/>
          <p:cNvPicPr/>
          <p:nvPr/>
        </p:nvPicPr>
        <p:blipFill>
          <a:blip r:embed="rId2"/>
          <a:stretch/>
        </p:blipFill>
        <p:spPr>
          <a:xfrm>
            <a:off x="449280" y="4565520"/>
            <a:ext cx="81248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64513" descr=""/>
          <p:cNvPicPr/>
          <p:nvPr/>
        </p:nvPicPr>
        <p:blipFill>
          <a:blip r:embed="rId1"/>
          <a:stretch/>
        </p:blipFill>
        <p:spPr>
          <a:xfrm>
            <a:off x="399960" y="981000"/>
            <a:ext cx="7610400" cy="5133960"/>
          </a:xfrm>
          <a:prstGeom prst="rect">
            <a:avLst/>
          </a:prstGeom>
          <a:ln w="0">
            <a:noFill/>
          </a:ln>
        </p:spPr>
      </p:pic>
      <p:sp>
        <p:nvSpPr>
          <p:cNvPr id="1024" name="矩形 64514"/>
          <p:cNvSpPr/>
          <p:nvPr/>
        </p:nvSpPr>
        <p:spPr>
          <a:xfrm>
            <a:off x="6810480" y="2055960"/>
            <a:ext cx="41112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8" name="图片 76801" descr=""/>
          <p:cNvPicPr/>
          <p:nvPr/>
        </p:nvPicPr>
        <p:blipFill>
          <a:blip r:embed="rId1"/>
          <a:stretch/>
        </p:blipFill>
        <p:spPr>
          <a:xfrm>
            <a:off x="528480" y="824040"/>
            <a:ext cx="80870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图片 77825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809640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图片 94209" descr=""/>
          <p:cNvPicPr/>
          <p:nvPr/>
        </p:nvPicPr>
        <p:blipFill>
          <a:blip r:embed="rId1"/>
          <a:stretch/>
        </p:blipFill>
        <p:spPr>
          <a:xfrm>
            <a:off x="318960" y="905040"/>
            <a:ext cx="802980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图片 93185" descr=""/>
          <p:cNvPicPr/>
          <p:nvPr/>
        </p:nvPicPr>
        <p:blipFill>
          <a:blip r:embed="rId1"/>
          <a:stretch/>
        </p:blipFill>
        <p:spPr>
          <a:xfrm>
            <a:off x="476280" y="1130400"/>
            <a:ext cx="819144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2" name="图片 92161" descr=""/>
          <p:cNvPicPr/>
          <p:nvPr/>
        </p:nvPicPr>
        <p:blipFill>
          <a:blip r:embed="rId1"/>
          <a:stretch/>
        </p:blipFill>
        <p:spPr>
          <a:xfrm>
            <a:off x="1023840" y="1054080"/>
            <a:ext cx="7467840" cy="476280"/>
          </a:xfrm>
          <a:prstGeom prst="rect">
            <a:avLst/>
          </a:prstGeom>
          <a:ln w="0">
            <a:noFill/>
          </a:ln>
        </p:spPr>
      </p:pic>
      <p:pic>
        <p:nvPicPr>
          <p:cNvPr id="1073" name="图片 92162" descr=""/>
          <p:cNvPicPr/>
          <p:nvPr/>
        </p:nvPicPr>
        <p:blipFill>
          <a:blip r:embed="rId2"/>
          <a:stretch/>
        </p:blipFill>
        <p:spPr>
          <a:xfrm>
            <a:off x="396720" y="1622520"/>
            <a:ext cx="803916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4" name="图片 91137" descr=""/>
          <p:cNvPicPr/>
          <p:nvPr/>
        </p:nvPicPr>
        <p:blipFill>
          <a:blip r:embed="rId1"/>
          <a:stretch/>
        </p:blipFill>
        <p:spPr>
          <a:xfrm>
            <a:off x="514440" y="1123920"/>
            <a:ext cx="811512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图片 90113" descr=""/>
          <p:cNvPicPr/>
          <p:nvPr/>
        </p:nvPicPr>
        <p:blipFill>
          <a:blip r:embed="rId1"/>
          <a:stretch/>
        </p:blipFill>
        <p:spPr>
          <a:xfrm>
            <a:off x="336600" y="942840"/>
            <a:ext cx="8077320" cy="4048200"/>
          </a:xfrm>
          <a:prstGeom prst="rect">
            <a:avLst/>
          </a:prstGeom>
          <a:ln w="0">
            <a:noFill/>
          </a:ln>
        </p:spPr>
      </p:pic>
      <p:sp>
        <p:nvSpPr>
          <p:cNvPr id="1076" name="矩形 90114"/>
          <p:cNvSpPr/>
          <p:nvPr/>
        </p:nvSpPr>
        <p:spPr>
          <a:xfrm>
            <a:off x="896760" y="2124000"/>
            <a:ext cx="769320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矩形 90115"/>
          <p:cNvSpPr/>
          <p:nvPr/>
        </p:nvSpPr>
        <p:spPr>
          <a:xfrm>
            <a:off x="720720" y="2703600"/>
            <a:ext cx="769320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矩形 90116"/>
          <p:cNvSpPr/>
          <p:nvPr/>
        </p:nvSpPr>
        <p:spPr>
          <a:xfrm>
            <a:off x="730080" y="3894120"/>
            <a:ext cx="769320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矩形 90117"/>
          <p:cNvSpPr/>
          <p:nvPr/>
        </p:nvSpPr>
        <p:spPr>
          <a:xfrm>
            <a:off x="730080" y="4489560"/>
            <a:ext cx="769320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0" name="图片 89089" descr=""/>
          <p:cNvPicPr/>
          <p:nvPr/>
        </p:nvPicPr>
        <p:blipFill>
          <a:blip r:embed="rId1"/>
          <a:stretch/>
        </p:blipFill>
        <p:spPr>
          <a:xfrm>
            <a:off x="219240" y="1130400"/>
            <a:ext cx="8057880" cy="2257200"/>
          </a:xfrm>
          <a:prstGeom prst="rect">
            <a:avLst/>
          </a:prstGeom>
          <a:ln w="0">
            <a:noFill/>
          </a:ln>
        </p:spPr>
      </p:pic>
      <p:sp>
        <p:nvSpPr>
          <p:cNvPr id="1081" name="矩形 89090"/>
          <p:cNvSpPr/>
          <p:nvPr/>
        </p:nvSpPr>
        <p:spPr>
          <a:xfrm>
            <a:off x="1568520" y="1704960"/>
            <a:ext cx="41112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2" name="图片 88065" descr=""/>
          <p:cNvPicPr/>
          <p:nvPr/>
        </p:nvPicPr>
        <p:blipFill>
          <a:blip r:embed="rId1"/>
          <a:stretch/>
        </p:blipFill>
        <p:spPr>
          <a:xfrm>
            <a:off x="345960" y="1017720"/>
            <a:ext cx="8210520" cy="4105080"/>
          </a:xfrm>
          <a:prstGeom prst="rect">
            <a:avLst/>
          </a:prstGeom>
          <a:ln w="0">
            <a:noFill/>
          </a:ln>
        </p:spPr>
      </p:pic>
      <p:sp>
        <p:nvSpPr>
          <p:cNvPr id="1083" name="矩形 88066"/>
          <p:cNvSpPr/>
          <p:nvPr/>
        </p:nvSpPr>
        <p:spPr>
          <a:xfrm>
            <a:off x="1081080" y="4019400"/>
            <a:ext cx="750888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矩形 88067"/>
          <p:cNvSpPr/>
          <p:nvPr/>
        </p:nvSpPr>
        <p:spPr>
          <a:xfrm>
            <a:off x="1096920" y="4614840"/>
            <a:ext cx="750888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5" name="图片 87041" descr=""/>
          <p:cNvPicPr/>
          <p:nvPr/>
        </p:nvPicPr>
        <p:blipFill>
          <a:blip r:embed="rId1"/>
          <a:stretch/>
        </p:blipFill>
        <p:spPr>
          <a:xfrm>
            <a:off x="169920" y="984240"/>
            <a:ext cx="8105760" cy="3591000"/>
          </a:xfrm>
          <a:prstGeom prst="rect">
            <a:avLst/>
          </a:prstGeom>
          <a:ln w="0">
            <a:noFill/>
          </a:ln>
        </p:spPr>
      </p:pic>
      <p:sp>
        <p:nvSpPr>
          <p:cNvPr id="1086" name="矩形 87042"/>
          <p:cNvSpPr/>
          <p:nvPr/>
        </p:nvSpPr>
        <p:spPr>
          <a:xfrm>
            <a:off x="728640" y="1587600"/>
            <a:ext cx="777708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矩形 87043"/>
          <p:cNvSpPr/>
          <p:nvPr/>
        </p:nvSpPr>
        <p:spPr>
          <a:xfrm>
            <a:off x="603360" y="2182680"/>
            <a:ext cx="777708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矩形 87044"/>
          <p:cNvSpPr/>
          <p:nvPr/>
        </p:nvSpPr>
        <p:spPr>
          <a:xfrm>
            <a:off x="636480" y="2762280"/>
            <a:ext cx="777744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矩形 87045"/>
          <p:cNvSpPr/>
          <p:nvPr/>
        </p:nvSpPr>
        <p:spPr>
          <a:xfrm>
            <a:off x="603360" y="3373560"/>
            <a:ext cx="777708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矩形 87046"/>
          <p:cNvSpPr/>
          <p:nvPr/>
        </p:nvSpPr>
        <p:spPr>
          <a:xfrm>
            <a:off x="511200" y="3952800"/>
            <a:ext cx="777708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63489" descr=""/>
          <p:cNvPicPr/>
          <p:nvPr/>
        </p:nvPicPr>
        <p:blipFill>
          <a:blip r:embed="rId1"/>
          <a:stretch/>
        </p:blipFill>
        <p:spPr>
          <a:xfrm>
            <a:off x="426960" y="1003320"/>
            <a:ext cx="804888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图片 62465" descr=""/>
          <p:cNvPicPr/>
          <p:nvPr/>
        </p:nvPicPr>
        <p:blipFill>
          <a:blip r:embed="rId1"/>
          <a:stretch/>
        </p:blipFill>
        <p:spPr>
          <a:xfrm>
            <a:off x="325440" y="979560"/>
            <a:ext cx="8153280" cy="3343320"/>
          </a:xfrm>
          <a:prstGeom prst="rect">
            <a:avLst/>
          </a:prstGeom>
          <a:ln w="0">
            <a:noFill/>
          </a:ln>
        </p:spPr>
      </p:pic>
      <p:sp>
        <p:nvSpPr>
          <p:cNvPr id="1027" name="矩形 62466"/>
          <p:cNvSpPr/>
          <p:nvPr/>
        </p:nvSpPr>
        <p:spPr>
          <a:xfrm>
            <a:off x="6105600" y="974880"/>
            <a:ext cx="41112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图片 61441" descr=""/>
          <p:cNvPicPr/>
          <p:nvPr/>
        </p:nvPicPr>
        <p:blipFill>
          <a:blip r:embed="rId1"/>
          <a:stretch/>
        </p:blipFill>
        <p:spPr>
          <a:xfrm>
            <a:off x="311040" y="977760"/>
            <a:ext cx="8163000" cy="280044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61442" descr=""/>
          <p:cNvPicPr/>
          <p:nvPr/>
        </p:nvPicPr>
        <p:blipFill>
          <a:blip r:embed="rId2"/>
          <a:stretch/>
        </p:blipFill>
        <p:spPr>
          <a:xfrm>
            <a:off x="363600" y="3851280"/>
            <a:ext cx="8058240" cy="2676600"/>
          </a:xfrm>
          <a:prstGeom prst="rect">
            <a:avLst/>
          </a:prstGeom>
          <a:ln w="0">
            <a:noFill/>
          </a:ln>
        </p:spPr>
      </p:pic>
      <p:sp>
        <p:nvSpPr>
          <p:cNvPr id="1030" name="矩形 61443"/>
          <p:cNvSpPr/>
          <p:nvPr/>
        </p:nvSpPr>
        <p:spPr>
          <a:xfrm>
            <a:off x="7078680" y="1008000"/>
            <a:ext cx="41112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图片 60417" descr=""/>
          <p:cNvPicPr/>
          <p:nvPr/>
        </p:nvPicPr>
        <p:blipFill>
          <a:blip r:embed="rId1"/>
          <a:stretch/>
        </p:blipFill>
        <p:spPr>
          <a:xfrm>
            <a:off x="190440" y="1036800"/>
            <a:ext cx="8096400" cy="3981240"/>
          </a:xfrm>
          <a:prstGeom prst="rect">
            <a:avLst/>
          </a:prstGeom>
          <a:ln w="0">
            <a:noFill/>
          </a:ln>
        </p:spPr>
      </p:pic>
      <p:sp>
        <p:nvSpPr>
          <p:cNvPr id="1032" name="矩形 60418"/>
          <p:cNvSpPr/>
          <p:nvPr/>
        </p:nvSpPr>
        <p:spPr>
          <a:xfrm>
            <a:off x="5191200" y="1058760"/>
            <a:ext cx="41112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图片 59393" descr=""/>
          <p:cNvPicPr/>
          <p:nvPr/>
        </p:nvPicPr>
        <p:blipFill>
          <a:blip r:embed="rId1"/>
          <a:stretch/>
        </p:blipFill>
        <p:spPr>
          <a:xfrm>
            <a:off x="301680" y="1090440"/>
            <a:ext cx="809604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图片 58369" descr=""/>
          <p:cNvPicPr/>
          <p:nvPr/>
        </p:nvPicPr>
        <p:blipFill>
          <a:blip r:embed="rId1"/>
          <a:stretch/>
        </p:blipFill>
        <p:spPr>
          <a:xfrm>
            <a:off x="235080" y="954000"/>
            <a:ext cx="8076960" cy="3409920"/>
          </a:xfrm>
          <a:prstGeom prst="rect">
            <a:avLst/>
          </a:prstGeom>
          <a:ln w="0">
            <a:noFill/>
          </a:ln>
        </p:spPr>
      </p:pic>
      <p:sp>
        <p:nvSpPr>
          <p:cNvPr id="1035" name="矩形 58371"/>
          <p:cNvSpPr/>
          <p:nvPr/>
        </p:nvSpPr>
        <p:spPr>
          <a:xfrm>
            <a:off x="4529160" y="982800"/>
            <a:ext cx="41112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图片 57345" descr=""/>
          <p:cNvPicPr/>
          <p:nvPr/>
        </p:nvPicPr>
        <p:blipFill>
          <a:blip r:embed="rId1"/>
          <a:stretch/>
        </p:blipFill>
        <p:spPr>
          <a:xfrm>
            <a:off x="512640" y="1006560"/>
            <a:ext cx="806796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4T09:56:35Z</dcterms:modified>
  <cp:revision>6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